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F511-CC44-436F-9349-8C285A4E97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ing is a family affair, if parent’s are not interested in their child’s school, the child will also not be interested in their personal achiev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to your child builds parent child bonds and improves the child’s vocabulary thus closing the achievement gap between the different socioeconomic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whelmingly, all the research indicate that parent involvement has a positive impact on student achiev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ent’s interest in their child’s work at home or at school allows the child to establish a value on his/her edu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s do not involve parents in the decision making and are content with their participation in PTA and school curriculum meet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BBB-D567-430D-BDB2-D75C9726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3CA-7B95-4B0A-9C94-235ECD93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675-2DB7-4A6B-A2F9-4CABA1B6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208-4924-4CDF-B80C-91BCE982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AB18-6CA5-448D-82D0-D38385AC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6CC1-CD2C-46A1-82DE-944F9C87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4A99-353A-40D2-AF4D-B13ABF13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FE22-1D5A-44BC-8826-7AD8BB30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1588-6528-4240-9FBF-C5942821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F43F-53FC-4866-82FB-A1862B90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C6DF-4313-46AD-AF5F-E82EED12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101-2ADF-48DD-B38F-7959979C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0C44-8824-4068-8767-081F7CF3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424E-F5FF-4644-8B78-95118BE8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57DD-9678-4353-BDA8-371D8910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6960-428B-487D-BC91-FBD6BC92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BA5C-7C78-4A23-AFFB-7BE82C73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2D09-F5FC-4181-B548-991A3457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203-A4BD-4BCE-9BFF-67D3BA71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D8F6-A349-4D7E-85DD-24840C01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E15B-F0D2-43FE-8A56-159A5803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DD8-3283-40A0-AF9E-3D1D0FC1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E49-3FD1-4A7D-AA68-061A3986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A8FF-EA53-4044-96A7-C2995299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B65A-00EF-434C-8AC6-DE6E4082572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57AA-6CB6-4491-8CF2-0BF7F7D077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Parent Involvement and Academic Achievemen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usan Campbell &amp; Sharon Glasgo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EDU 702.2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Fall 200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9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4642"/>
                </a:solidFill>
                <a:latin typeface="Comic Sans MS"/>
              </a:rPr>
              <a:t>Hypothe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HR-1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ough this research, we will provide evidenc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prove that parental involvement in a child’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ademic life will have a positive improvement 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child’s grades and overall performance i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ool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HR-2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6th Grade classes of 25 students in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ooklyn public school will be assesse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5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Reading Changes L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7" descr="http://etc.usf.edu/clipart/16100/16161/reading_16161.htm"/>
          <p:cNvPicPr/>
          <p:nvPr/>
        </p:nvPicPr>
        <p:blipFill>
          <a:blip r:embed="rId1"/>
          <a:stretch/>
        </p:blipFill>
        <p:spPr>
          <a:xfrm>
            <a:off x="155520" y="46080"/>
            <a:ext cx="1047960" cy="895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Butterfly And Flowers Clipart"/>
          <p:cNvPicPr/>
          <p:nvPr/>
        </p:nvPicPr>
        <p:blipFill>
          <a:blip r:embed="rId2"/>
          <a:stretch/>
        </p:blipFill>
        <p:spPr>
          <a:xfrm>
            <a:off x="3276720" y="2362320"/>
            <a:ext cx="251460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nderson, A. T., &amp; Mapp, K. L. (2002)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A new  wave of evidenc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Austin, TX: National Center for Family and Community Connections with School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trikakou, E. N., Weissberg, R. P., Redding, S., &amp; Walberg, H. J. (Eds.). (2005)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chool-family partnerships: Fostering children’s school succes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New York: Teachers College Pres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nderson, A. T., &amp; Berla, N. (1994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). A new generation of evidence: The family is critical to student achievement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St Louis, MO: Danforth Foundation and Flint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rey, N., Lewis, L., Farris, E., &amp; Westat, I. (1998). Parent Involvement in Children's Education: Efforts by Public Elementary Schools. National Center for Education Statistics Statistical Analysis Report. http://search.ebscohos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simone, L. (1999).  Linking Parent Involvement with Student Achievement: Do Race and Income Matter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over-Dempsey, K. &amp; Walker, J. (2005).  Why Do Parents Become Involved? Research Findings and Implicatio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armouth, J. (2004). Issues in Addressing Children’s Difficulties in Literacy Development through Family-School Partnership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ap, 0. K. &amp; Enoki, D. (2007). In Search of the Elusive Magic Bullet:  Parental Involvement and Student Outcomes, Perceptions of Parent Involvement in Academic Achievement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ang, W., &amp; Sen Q. (2006). Longitudinal Effects of Parenting on Children's Academic Achievement in African American Famili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ill, N., and Tyson, D., (2009) Parental Involvement in Middle School: A Meta-Analytic Assessment of the Strategies That Promote Achievement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dgett, R., Best Ways to Involve Paren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trikakou, E., The Power of Parent Involvement: Evidence, Ideas and Tools for Student Success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ttle-Bailey, L., (2004).  Interactive homework for increasing parent involvement and student reading achievement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ldridge, D., (2001). Parent involvement: It's worth the effort. Young children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pstein, J., (2005). A case study of the partnership schools Comprehensive School Refor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wes, C., (2005).  Parental involvement and its influence on reading achievement of 6th grade student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na, D., (2000). Parent involvement: Influencing factors and implica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ellman, G., &amp; Waterman, J., (1998). Understanding the impact of parent school involvement on children's educational outco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tatement of the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Review of Litera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tatement of the Hypo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5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earch indicates that there are positive academic outcomes stemming from parental involvement with benefits beginning in early childhood throughout adolescence and beyon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enderson &amp; Mapp, 2002; Patrikakou, Weisberg, Redding, &amp; Walberg, 2005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Statement of the Probl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children move up in grades, parent involvement wanes.  This research project will attempt to prove that increasing parent involvement will improve children’s academic achieve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5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Review of Litera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 well-established fact that parental involvement is linked to children’s success at school. When parents are involved in their children’s education at home, they do better in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enderson and Berla, 199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5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Review of Literature (continue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involvement is a valuable component of any student’s educ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evel of parent–school involvement is a better predictor of grades than are standardized test scor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esimone, 1999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Review of Literature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12 years of 180 six-hour days spent in school add up to only 13 % of a student’s waking, learning time during the first 18 years of life. The rest, 87% is spent out of school, primarily at home. (Walberg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4889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Pros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pstein’s Framework of Six Types of Involvement:  parenting, communicating, volunteering, learning at home, decision making and collaborating with commun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4508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ntional avenues for involving parents in school can be closed to parents due to specific cultural knowledg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0:00:42Z</dcterms:created>
  <dc:creator>1b-9</dc:creator>
  <dc:description/>
  <dc:language>en-US</dc:language>
  <cp:lastModifiedBy>SCampbell</cp:lastModifiedBy>
  <dcterms:modified xsi:type="dcterms:W3CDTF">2009-11-19T18:58:21Z</dcterms:modified>
  <cp:revision>35</cp:revision>
  <dc:subject/>
  <dc:title>Slide 1</dc:title>
</cp:coreProperties>
</file>